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3A4-D50D-43C7-86D3-47BA0697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432-3CD2-41A4-9B5C-2B5AC60E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94A-F97E-4970-8948-13F510DE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D3E-1ED3-4FED-8084-F39D5269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8F9-96AC-4C70-AB43-27FA1D3D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A06-0DA4-426A-AF3B-32675E34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1B5-B9DA-4B68-90B0-1AFDC4B6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949-86F7-4712-B3A1-E75441F9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DE0-7892-479A-BFE8-F9CE8D53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11A-EEAE-423C-B484-9F60B5E9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9D8-E035-444B-AF9A-F86AD241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5A2-EF84-41A8-AE09-C66083D5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A459-A20C-43D9-A526-BCF464354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6:05:03Z</dcterms:created>
  <dc:creator>HttpCommander</dc:creator>
  <dc:description/>
  <dc:language>en-US</dc:language>
  <cp:lastModifiedBy>HttpCommander</cp:lastModifiedBy>
  <dcterms:modified xsi:type="dcterms:W3CDTF">2011-02-09T06:05:32Z</dcterms:modified>
  <cp:revision>1</cp:revision>
  <dc:subject/>
  <dc:title>PowerPoint Presentation</dc:title>
</cp:coreProperties>
</file>